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809-8F51-4E16-8539-F4DA0CA8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2AE-4429-40DA-8832-8C11764A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B93-1083-4E38-8776-5A1399E3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5E5-3D01-4226-A450-E2ADF45B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AA6-A957-47AF-A640-981E367A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F9C-319D-4ED6-904F-83DFFB3D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7CF-6CF2-4B62-A190-0F2ED0A7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FA2-00D1-43F3-A21E-4B891134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0D7-2199-4A38-B4D9-B7DC8C30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C0D-F1B7-44EC-A892-82F29A2C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91E-8220-47BB-8A9C-8BB7077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365-E3BB-4327-A068-09FF82D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8E2E-61EE-4D4D-8F4A-E264B747A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soup" descr="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Car1" descr="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DANCING" descr="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1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acher" descr="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0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en00500_" descr="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bs00554_" descr="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8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7480" y="49528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O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090_" descr="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0542_" descr="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pe00542_" descr="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na01069_" descr="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7040" y="23302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5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Saint John's Hgh School</cp:lastModifiedBy>
  <dcterms:modified xsi:type="dcterms:W3CDTF">2001-02-06T01:06:15Z</dcterms:modified>
  <cp:revision>29</cp:revision>
  <dc:subject/>
  <dc:title>PowerPoint Presentation</dc:title>
</cp:coreProperties>
</file>