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46EB-EFE5-4591-BE1F-647879F28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7C47-27C6-43E9-A728-4AEDE2365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8B84-C378-43FA-99A0-ACF757918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66CF-CEED-42FD-B5B7-3AB6CA72B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5B4A-33A2-4FD6-B278-1B6E34C70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1F0C-D4A7-4708-BB05-42EAEC38B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D82B-D75A-4C90-A451-51A71FEF2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1D44-CAEC-4297-8B65-2EA297599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AC6C-3D5E-43EC-805E-A4DC841E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76E-26D0-4B5B-8D3E-B2EC3B3D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BECE-E0D8-441E-A091-298BB4B2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F79D-7EC6-4266-AE8B-FDCFB81A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92B1-5850-4A3E-9828-8D79D3CF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7C2-96A7-479F-8C3A-AE29FD36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CAD-D6DD-4BC2-B531-1BBF28EE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F25-3192-4448-B94E-F9812DD2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0AFB-7D70-40A0-B04D-DFF15CDA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F9B-55A7-45D1-B916-9A2C6918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2A7-75F8-4B7C-A208-A01E7BE1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594C-5C73-41EB-AC6E-6E9FCA4D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1DAB-3D5E-428C-9CEE-2F1005DFC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5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(“My” or “I” trip?) viaj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(POR): Nick Jae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WDW_Epcot"/>
          <p:cNvPicPr/>
          <p:nvPr/>
        </p:nvPicPr>
        <p:blipFill>
          <a:blip r:embed="rId1"/>
          <a:stretch/>
        </p:blipFill>
        <p:spPr>
          <a:xfrm>
            <a:off x="0" y="0"/>
            <a:ext cx="2895480" cy="209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DisneysMagicKingdomMap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238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wdw_animal_kingdom"/>
          <p:cNvPicPr/>
          <p:nvPr/>
        </p:nvPicPr>
        <p:blipFill>
          <a:blip r:embed="rId3"/>
          <a:stretch/>
        </p:blipFill>
        <p:spPr>
          <a:xfrm>
            <a:off x="0" y="3686040"/>
            <a:ext cx="4038480" cy="317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Disney-MGM-Studios2"/>
          <p:cNvPicPr/>
          <p:nvPr/>
        </p:nvPicPr>
        <p:blipFill>
          <a:blip r:embed="rId4"/>
          <a:stretch/>
        </p:blipFill>
        <p:spPr>
          <a:xfrm>
            <a:off x="4952880" y="3567240"/>
            <a:ext cx="419112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743200" y="2057400"/>
            <a:ext cx="3657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viajé (NEEDS THE WORD “TO”) Disney World. Disney World (NEEDS THE WORD “WAS”)muy divertidos (AGREES IN THE SINGULAR). Mi familia y yo vame a Disney World para siete d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ym_0025-0803-0812-3342_suitcase_luggage_cartoon_character_riding_a_bicycle"/>
          <p:cNvPicPr/>
          <p:nvPr/>
        </p:nvPicPr>
        <p:blipFill>
          <a:blip r:embed="rId1"/>
          <a:stretch/>
        </p:blipFill>
        <p:spPr>
          <a:xfrm rot="20605800">
            <a:off x="685800" y="4724280"/>
            <a:ext cx="1647720" cy="175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suitcase_luggage_cartoon_character_with_welcoming_open_arms"/>
          <p:cNvPicPr/>
          <p:nvPr/>
        </p:nvPicPr>
        <p:blipFill>
          <a:blip r:embed="rId2"/>
          <a:stretch/>
        </p:blipFill>
        <p:spPr>
          <a:xfrm rot="1408200">
            <a:off x="761760" y="228240"/>
            <a:ext cx="149040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12664-Clipart-Picture-Of-A-Suitcase-Cartoon-Character-Hiking-And-Carrying-A-Backpack"/>
          <p:cNvPicPr/>
          <p:nvPr/>
        </p:nvPicPr>
        <p:blipFill>
          <a:blip r:embed="rId3"/>
          <a:stretch/>
        </p:blipFill>
        <p:spPr>
          <a:xfrm rot="843000">
            <a:off x="6857640" y="4419720"/>
            <a:ext cx="189720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12667-Clipart-Picture-Of-A-Suitcase-Cartoon-Character-Wearing-A-Birthday-Party-Hat"/>
          <p:cNvPicPr/>
          <p:nvPr/>
        </p:nvPicPr>
        <p:blipFill>
          <a:blip r:embed="rId4"/>
          <a:stretch/>
        </p:blipFill>
        <p:spPr>
          <a:xfrm rot="20280000">
            <a:off x="6705360" y="-152280"/>
            <a:ext cx="1928520" cy="2590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0025-0803-0812-3249_clip_art_graphic_of_a_suitcase_luggage_cartoon_character_playing_ice_hockey"/>
          <p:cNvPicPr/>
          <p:nvPr/>
        </p:nvPicPr>
        <p:blipFill>
          <a:blip r:embed="rId5"/>
          <a:stretch/>
        </p:blipFill>
        <p:spPr>
          <a:xfrm>
            <a:off x="3581280" y="0"/>
            <a:ext cx="1949400" cy="196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suitcase_luggage_cartoon_character_rowing_a_boat"/>
          <p:cNvPicPr/>
          <p:nvPr/>
        </p:nvPicPr>
        <p:blipFill>
          <a:blip r:embed="rId6"/>
          <a:stretch/>
        </p:blipFill>
        <p:spPr>
          <a:xfrm>
            <a:off x="304920" y="2286000"/>
            <a:ext cx="2447640" cy="1773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sym_0025-0803-0812-3342_suitcase_luggage_cartoon_character_riding_a_bicycle"/>
          <p:cNvPicPr/>
          <p:nvPr/>
        </p:nvPicPr>
        <p:blipFill>
          <a:blip r:embed="rId7"/>
          <a:stretch/>
        </p:blipFill>
        <p:spPr>
          <a:xfrm>
            <a:off x="7010280" y="2666880"/>
            <a:ext cx="1524240" cy="161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suitcase_cartoon_SC01P012"/>
          <p:cNvPicPr/>
          <p:nvPr/>
        </p:nvPicPr>
        <p:blipFill>
          <a:blip r:embed="rId8"/>
          <a:stretch/>
        </p:blipFill>
        <p:spPr>
          <a:xfrm>
            <a:off x="1371600" y="5181480"/>
            <a:ext cx="1428840" cy="1343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12675-Clipart-Picture-Of-A-Suitcase-Cartoon-Character-Holding-A-Heavy-Barbell-Above-His-Head"/>
          <p:cNvPicPr/>
          <p:nvPr/>
        </p:nvPicPr>
        <p:blipFill>
          <a:blip r:embed="rId9"/>
          <a:stretch/>
        </p:blipFill>
        <p:spPr>
          <a:xfrm>
            <a:off x="6019920" y="5146560"/>
            <a:ext cx="183816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empa (NEEDS HALF THE WORD) unas camisetas. Yo empaqué unos pantalones cortos. Yo empaqué un traje de b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vintage-mickey-mouse-t-shirt"/>
          <p:cNvPicPr/>
          <p:nvPr/>
        </p:nvPicPr>
        <p:blipFill>
          <a:blip r:embed="rId1"/>
          <a:stretch/>
        </p:blipFill>
        <p:spPr>
          <a:xfrm>
            <a:off x="4724280" y="3170160"/>
            <a:ext cx="44197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58672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Disney World nosotros jugamos en el agua. Mi familia y yo juque (CHECK SUBJECT VERB AGREEMENT) en el (MEANS THE WALKS, BUT THE HAS TO AGREE WITH WALKS) pase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raft_lens1555440module13537143photo_1232412792disneytyphoonlagoon"/>
          <p:cNvPicPr/>
          <p:nvPr/>
        </p:nvPicPr>
        <p:blipFill>
          <a:blip r:embed="rId1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vfiles16926"/>
          <p:cNvPicPr/>
          <p:nvPr/>
        </p:nvPicPr>
        <p:blipFill>
          <a:blip r:embed="rId2"/>
          <a:stretch/>
        </p:blipFill>
        <p:spPr>
          <a:xfrm>
            <a:off x="7229520" y="0"/>
            <a:ext cx="191448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ummitplummet"/>
          <p:cNvPicPr/>
          <p:nvPr/>
        </p:nvPicPr>
        <p:blipFill>
          <a:blip r:embed="rId3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038120" y="4723920"/>
            <a:ext cx="487692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 viajé en el avion. En Disney World nosotros viajamos en el autobus. Yo no utilize (A –CAR, -GAR, -ZAR VERBS) un (A FEMININE WORD) agencia de viaj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airplane_l"/>
          <p:cNvPicPr/>
          <p:nvPr/>
        </p:nvPicPr>
        <p:blipFill>
          <a:blip r:embed="rId1"/>
          <a:stretch/>
        </p:blipFill>
        <p:spPr>
          <a:xfrm>
            <a:off x="0" y="380988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disney_transport_2751"/>
          <p:cNvPicPr/>
          <p:nvPr/>
        </p:nvPicPr>
        <p:blipFill>
          <a:blip r:embed="rId2"/>
          <a:stretch/>
        </p:blipFill>
        <p:spPr>
          <a:xfrm>
            <a:off x="2362320" y="304920"/>
            <a:ext cx="58672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46479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madrugué y salgue(DON’T KNOW WHAT YOU MEAN HERE: “SALIR” MEANS TO LEAVE. WHAT FORM IS THIS AND WHAT ARE YOU TRYING TO SAY?) para Disney World. Yo llego (USE PRETERITE)en el aueropuerton (CHECK SPELL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izmir_airport_view"/>
          <p:cNvPicPr/>
          <p:nvPr/>
        </p:nvPicPr>
        <p:blipFill>
          <a:blip r:embed="rId1"/>
          <a:stretch/>
        </p:blipFill>
        <p:spPr>
          <a:xfrm>
            <a:off x="533520" y="-838080"/>
            <a:ext cx="73436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acaciones ere(USE THE VERB COSTAR) mucho d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money_tree"/>
          <p:cNvPicPr/>
          <p:nvPr/>
        </p:nvPicPr>
        <p:blipFill>
          <a:blip r:embed="rId1"/>
          <a:stretch/>
        </p:blipFill>
        <p:spPr>
          <a:xfrm>
            <a:off x="5486400" y="2971800"/>
            <a:ext cx="3362400" cy="3619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money%20house"/>
          <p:cNvPicPr/>
          <p:nvPr/>
        </p:nvPicPr>
        <p:blipFill>
          <a:blip r:embed="rId2"/>
          <a:stretch/>
        </p:blipFill>
        <p:spPr>
          <a:xfrm>
            <a:off x="6705720" y="2286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6:09:05Z</dcterms:created>
  <dc:creator>Nick Jaeger</dc:creator>
  <dc:description/>
  <dc:language>en-US</dc:language>
  <cp:lastModifiedBy>Administrator</cp:lastModifiedBy>
  <dcterms:modified xsi:type="dcterms:W3CDTF">2009-12-10T15:18:52Z</dcterms:modified>
  <cp:revision>13</cp:revision>
  <dc:subject/>
  <dc:title> Travel Project By: Nick Jaeger</dc:title>
</cp:coreProperties>
</file>