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0751-047A-4912-8101-855086C4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402-0079-4681-8AC5-165AF58B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391-7310-4EAE-8107-A27854B5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502-6286-4CFE-BD9B-F66A0718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6C46-5432-42C4-AE39-874AECB9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474-5BBF-49FD-9C3B-84638CCE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653-1FF4-41E3-85CC-05BE63A7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0A8-4D58-405F-83E3-D9ED56B5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FEA-D470-4C54-8966-6BB1EB89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EA8-D3FE-4B6C-B075-A0CBCC9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F31-71B1-4793-B740-94F8367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FB4-3DA1-41BC-81D4-F3FB0DFA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280-F867-4A08-88ED-E6F16A6E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EBA-4C6B-4A37-AF55-8DCF4B6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4C1-D9DF-45F8-A85E-49D8792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51A-321F-44E7-ACE4-FB5A9740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8F2-5D62-4F7C-977C-B807B6C2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F0-A81D-4327-A668-098F3E0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5B6-7A62-4736-8970-835C357F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492-7DF0-4C46-8128-AECBEB4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28E8-1457-4595-B192-5E235764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(“My” or “I” trip?) viaj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(POR): Nick J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DW_Epcot"/>
          <p:cNvPicPr/>
          <p:nvPr/>
        </p:nvPicPr>
        <p:blipFill>
          <a:blip r:embed="rId1"/>
          <a:stretch/>
        </p:blipFill>
        <p:spPr>
          <a:xfrm>
            <a:off x="0" y="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isneysMagicKingdomMap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23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wdw_animal_kingdom"/>
          <p:cNvPicPr/>
          <p:nvPr/>
        </p:nvPicPr>
        <p:blipFill>
          <a:blip r:embed="rId3"/>
          <a:stretch/>
        </p:blipFill>
        <p:spPr>
          <a:xfrm>
            <a:off x="0" y="3686040"/>
            <a:ext cx="4038480" cy="317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isney-MGM-Studios2"/>
          <p:cNvPicPr/>
          <p:nvPr/>
        </p:nvPicPr>
        <p:blipFill>
          <a:blip r:embed="rId4"/>
          <a:stretch/>
        </p:blipFill>
        <p:spPr>
          <a:xfrm>
            <a:off x="4952880" y="3567240"/>
            <a:ext cx="41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4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viajé (NEEDS THE WORD “TO”) Disney World. Disney World (NEEDS THE WORD “WAS”)muy divertidos (AGREES IN THE SINGULAR). Mi familia y yo vame a Disney World para siete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ym_0025-0803-0812-3342_suitcase_luggage_cartoon_character_riding_a_bicycle"/>
          <p:cNvPicPr/>
          <p:nvPr/>
        </p:nvPicPr>
        <p:blipFill>
          <a:blip r:embed="rId1"/>
          <a:stretch/>
        </p:blipFill>
        <p:spPr>
          <a:xfrm rot="20605800">
            <a:off x="685800" y="4724280"/>
            <a:ext cx="16477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uitcase_luggage_cartoon_character_with_welcoming_open_arms"/>
          <p:cNvPicPr/>
          <p:nvPr/>
        </p:nvPicPr>
        <p:blipFill>
          <a:blip r:embed="rId2"/>
          <a:stretch/>
        </p:blipFill>
        <p:spPr>
          <a:xfrm rot="1408200">
            <a:off x="761760" y="228240"/>
            <a:ext cx="14904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2664-Clipart-Picture-Of-A-Suitcase-Cartoon-Character-Hiking-And-Carrying-A-Backpack"/>
          <p:cNvPicPr/>
          <p:nvPr/>
        </p:nvPicPr>
        <p:blipFill>
          <a:blip r:embed="rId3"/>
          <a:stretch/>
        </p:blipFill>
        <p:spPr>
          <a:xfrm rot="843000">
            <a:off x="6857640" y="4419720"/>
            <a:ext cx="1897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2667-Clipart-Picture-Of-A-Suitcase-Cartoon-Character-Wearing-A-Birthday-Party-Hat"/>
          <p:cNvPicPr/>
          <p:nvPr/>
        </p:nvPicPr>
        <p:blipFill>
          <a:blip r:embed="rId4"/>
          <a:stretch/>
        </p:blipFill>
        <p:spPr>
          <a:xfrm rot="20280000">
            <a:off x="6705360" y="-152280"/>
            <a:ext cx="192852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025-0803-0812-3249_clip_art_graphic_of_a_suitcase_luggage_cartoon_character_playing_ice_hockey"/>
          <p:cNvPicPr/>
          <p:nvPr/>
        </p:nvPicPr>
        <p:blipFill>
          <a:blip r:embed="rId5"/>
          <a:stretch/>
        </p:blipFill>
        <p:spPr>
          <a:xfrm>
            <a:off x="3581280" y="0"/>
            <a:ext cx="19494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suitcase_luggage_cartoon_character_rowing_a_boat"/>
          <p:cNvPicPr/>
          <p:nvPr/>
        </p:nvPicPr>
        <p:blipFill>
          <a:blip r:embed="rId6"/>
          <a:stretch/>
        </p:blipFill>
        <p:spPr>
          <a:xfrm>
            <a:off x="304920" y="2286000"/>
            <a:ext cx="2447640" cy="177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sym_0025-0803-0812-3342_suitcase_luggage_cartoon_character_riding_a_bicycle"/>
          <p:cNvPicPr/>
          <p:nvPr/>
        </p:nvPicPr>
        <p:blipFill>
          <a:blip r:embed="rId7"/>
          <a:stretch/>
        </p:blipFill>
        <p:spPr>
          <a:xfrm>
            <a:off x="7010280" y="266688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suitcase_cartoon_SC01P012"/>
          <p:cNvPicPr/>
          <p:nvPr/>
        </p:nvPicPr>
        <p:blipFill>
          <a:blip r:embed="rId8"/>
          <a:stretch/>
        </p:blipFill>
        <p:spPr>
          <a:xfrm>
            <a:off x="1371600" y="5181480"/>
            <a:ext cx="1428840" cy="134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12675-Clipart-Picture-Of-A-Suitcase-Cartoon-Character-Holding-A-Heavy-Barbell-Above-His-Head"/>
          <p:cNvPicPr/>
          <p:nvPr/>
        </p:nvPicPr>
        <p:blipFill>
          <a:blip r:embed="rId9"/>
          <a:stretch/>
        </p:blipFill>
        <p:spPr>
          <a:xfrm>
            <a:off x="6019920" y="5146560"/>
            <a:ext cx="183816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empa (NEEDS HALF THE WORD) unas camisetas. Yo empaqué unos pantalones cortos. Yo empaqué un traje de 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ntage-mickey-mouse-t-shirt"/>
          <p:cNvPicPr/>
          <p:nvPr/>
        </p:nvPicPr>
        <p:blipFill>
          <a:blip r:embed="rId1"/>
          <a:stretch/>
        </p:blipFill>
        <p:spPr>
          <a:xfrm>
            <a:off x="4724280" y="3170160"/>
            <a:ext cx="4419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Disney World nosotros jugamos en el agua. Mi familia y yo juque (CHECK SUBJECT VERB AGREEMENT) en el (MEANS THE WALKS, BUT THE HAS TO AGREE WITH WALKS) pa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555440module13537143photo_1232412792disneytyphoonlagoon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files16926"/>
          <p:cNvPicPr/>
          <p:nvPr/>
        </p:nvPicPr>
        <p:blipFill>
          <a:blip r:embed="rId2"/>
          <a:stretch/>
        </p:blipFill>
        <p:spPr>
          <a:xfrm>
            <a:off x="7229520" y="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ummitplummet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038120" y="4723920"/>
            <a:ext cx="4876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viajé en el avion. En Disney World nosotros viajamos en el autobus. Yo no utilize (A –CAR, -GAR, -ZAR VERBS) un (A FEMININE WORD) agencia de viaj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irplane_l"/>
          <p:cNvPicPr/>
          <p:nvPr/>
        </p:nvPicPr>
        <p:blipFill>
          <a:blip r:embed="rId1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isney_transport_2751"/>
          <p:cNvPicPr/>
          <p:nvPr/>
        </p:nvPicPr>
        <p:blipFill>
          <a:blip r:embed="rId2"/>
          <a:stretch/>
        </p:blipFill>
        <p:spPr>
          <a:xfrm>
            <a:off x="2362320" y="304920"/>
            <a:ext cx="586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4647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madrugué y salgue(DON’T KNOW WHAT YOU MEAN HERE: “SALIR” MEANS TO LEAVE. WHAT FORM IS THIS AND WHAT ARE YOU TRYING TO SAY?) para Disney World. Yo llego (USE PRETERITE)en el aueropuerton (CHECK SPE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zmir_airport_view"/>
          <p:cNvPicPr/>
          <p:nvPr/>
        </p:nvPicPr>
        <p:blipFill>
          <a:blip r:embed="rId1"/>
          <a:stretch/>
        </p:blipFill>
        <p:spPr>
          <a:xfrm>
            <a:off x="533520" y="-838080"/>
            <a:ext cx="7343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aciones ere(USE THE VERB COSTAR) mucho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oney_tree"/>
          <p:cNvPicPr/>
          <p:nvPr/>
        </p:nvPicPr>
        <p:blipFill>
          <a:blip r:embed="rId1"/>
          <a:stretch/>
        </p:blipFill>
        <p:spPr>
          <a:xfrm>
            <a:off x="5486400" y="2971800"/>
            <a:ext cx="33624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oney%20house"/>
          <p:cNvPicPr/>
          <p:nvPr/>
        </p:nvPicPr>
        <p:blipFill>
          <a:blip r:embed="rId2"/>
          <a:stretch/>
        </p:blipFill>
        <p:spPr>
          <a:xfrm>
            <a:off x="6705720" y="228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09:05Z</dcterms:created>
  <dc:creator>Nick Jaeger</dc:creator>
  <dc:description/>
  <dc:language>en-US</dc:language>
  <cp:lastModifiedBy>Administrator</cp:lastModifiedBy>
  <dcterms:modified xsi:type="dcterms:W3CDTF">2009-12-10T15:18:52Z</dcterms:modified>
  <cp:revision>13</cp:revision>
  <dc:subject/>
  <dc:title> Travel Project By: Nick Jaeger</dc:title>
</cp:coreProperties>
</file>