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0C27-7991-4C96-9C2B-85056F88F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1B0F-EFAE-4396-8DC6-925D0D97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E816-E166-41BD-8C9B-A4BC50B8C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DFF6-2583-4DB7-AE64-15A377EBB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488C-3C3A-40C2-B2EB-2905C426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5C05-9561-49E2-BF76-1ADF6C2F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DA4F-861C-4C7A-9846-F4445789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620C-61B6-4879-9528-6BFC90AC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C11C-D8DE-4435-B1F2-C2EA116B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6CE3-FB4D-490E-8925-831B5C9B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B729-7F94-4453-8B9B-A84B1D5D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55E4-751F-4F42-A11F-D3FBC073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92B4-7C28-41EC-A0BA-347CFCF28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ea Side"/>
          <p:cNvPicPr/>
          <p:nvPr/>
        </p:nvPicPr>
        <p:blipFill>
          <a:blip r:embed="rId1"/>
          <a:stretch/>
        </p:blipFill>
        <p:spPr>
          <a:xfrm>
            <a:off x="-304920" y="-609480"/>
            <a:ext cx="10820520" cy="8115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 viajo (Check spelling) a la(not necessary to say “My trip to the Seaside” since Sea Side is a proper noun) Sea Sid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266720" y="6095520"/>
            <a:ext cx="4876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Mike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el automov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el automovil, hay muchas bolsas de maletas(makes no sense. “In the car, there are a lot of bags of suitcas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sotros fuistimos (check verb “ir” in preterite) muchas esatcion (check spelling) de gasolinas. Nosotros molestamos mi amigos madre (check word order = needs to be “ the friends of my mother”) tamb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spanish priject"/>
          <p:cNvPicPr/>
          <p:nvPr/>
        </p:nvPicPr>
        <p:blipFill>
          <a:blip r:embed="rId1"/>
          <a:stretch/>
        </p:blipFill>
        <p:spPr>
          <a:xfrm>
            <a:off x="4267080" y="2514600"/>
            <a:ext cx="4572000" cy="29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seaside hotel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70102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la ho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a hotel(masculine), nosotros hemos descomprimido (USE PRETERITE TENSE AND CHECK VOCABULARY. WHAT IS “DESCOMPRIMIR”? nuestas bols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 la hotel (MASCULINE) , mi (AGREES WITH AMIGOS) amigos y yo tenimos (CHECK IRREGULAR PRETERITE FORM OF TENER) muy (=“WE HAD VERY FOOD?) comida y fuistimos(CHECK PRETERITE VERB FORM OF “IR”) nadamos (SECOND VERB IS ALWAYS IN INFINITIVE FORM = WE WENT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O SWI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seaside sea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Play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playa era (USE PRETERITE TENSE) muy fantasico (CHECK SPELLING)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arena era calido (AGREES WITH ARENA, y el agua era muy entrecortado (MEANING OF ‘ENTRECORTADO”? NEVER HEARD OF IT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sea side pizza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 restaur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a(NOT NECESSARY) Sea Side, las(A MASCULINE WORD)restaurantes era(USE PRETERITE AND CHECK SUBJECT-VERB AGREEMENT muy delicioso (AGREES WITH RESTAURANT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comida de(DOESN’T NEED “DE”) Italiano (AGREES WITH LA COMIDA) era (USE PRETERITE TENSE) muy b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 odio la comida de mar (FIND WORD FOR “SEAFOOD”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rid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 Paseo Mariti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 el paseo maritimo, hay muchas hacieron (MAKES NO SENSE = ON THE BOARDWALK THERE ARE A LOT “HACIERON = NOT A WORD). Hay muchas (NEEDS TO AGREE WITH THE NOUN IT:’S MODIFY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eos, montana  rusas NEEDS TO AGREE WITH THE NOUN IT:’S MODIFYING), y arc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paseo maritimo era muy diversion (USE ADJECTIVE. THIS SAYS “THE BOARDWALK WAS VERY ENTERTAINMEN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lver a la(DOESN’T NEED TO SAY THE RETURN TO “THE” SUFFERN) Suff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l volvimos (= IN THE WE RETURNED) a la (DOESN’T NEED TO SAY THE RETURN TO “THE” SUFFERN) Suffern, nosotros fuitimos (NOT A VERB – CHECK FORM) a la (NEEDS MASCULINE) centro de Palisa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 (NEEDS MASCULINE)centro de Palisades, fuistimos (NOT A VERB) a el (A + EL = ?) cine y miraron (THEY LOOKED? OR WE LOOKED?) una pelicu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pues la pelicula, fuistimos (NOT A VERB) a la casa de mi amigo y jugaron THEY PLAYED OR WE PLAYED futbol de (DOES NOT NEED “DE”) america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o (NEEDS A VERB HERE) mi vacacion (VACATION IS ALWAYS A PLURAL WORD IN SPANISH) en el invireno (CHECK SPELL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01:55:55Z</dcterms:created>
  <dc:creator>Preferred Customer</dc:creator>
  <dc:description/>
  <dc:language>en-US</dc:language>
  <cp:lastModifiedBy>Administrator</cp:lastModifiedBy>
  <dcterms:modified xsi:type="dcterms:W3CDTF">2009-12-08T14:20:36Z</dcterms:modified>
  <cp:revision>4</cp:revision>
  <dc:subject/>
  <dc:title>Sea Side</dc:title>
</cp:coreProperties>
</file>