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47F-8F40-47CF-84E5-912F5603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4E1-EE1F-4E68-B23D-F16A161D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305-BE15-4B5C-A9B6-2D9AD6D1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CBA-E87D-4456-99D6-A4253E29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3F5-04A8-46D1-BD67-A9918571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13A-8ED7-4151-B185-F40104FA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362-3C96-4EEF-B1A5-9A773E93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06E-1AE0-4465-9F41-6B8A8C1B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6A6-3C5C-4E7C-99AB-01B7F439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189-DCEB-4B5A-A6F4-2F8BED00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DEA-BAFB-4DF6-AD0C-86327EF4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A28-F7E6-4C2F-BCB2-8FC9E96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2364-4626-46F2-9B2B-3FDDDE409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ea Side"/>
          <p:cNvPicPr/>
          <p:nvPr/>
        </p:nvPicPr>
        <p:blipFill>
          <a:blip r:embed="rId1"/>
          <a:stretch/>
        </p:blipFill>
        <p:spPr>
          <a:xfrm>
            <a:off x="-304920" y="-609480"/>
            <a:ext cx="10820520" cy="811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 viajo (Check spelling) a la(not necessary to say “My trip to the Seaside” since Sea Side is a proper noun) Sea Si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66720" y="60955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ike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automo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automovil, hay muchas bolsas de maletas(makes no sense. “In the car, there are a lot of bags of suitc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 fuistimos (check verb “ir” in preterite) muchas esatcion (check spelling) de gasolinas. Nosotros molestamos mi amigos madre (check word order = needs to be “ the friends of my mother”) tam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panish priject"/>
          <p:cNvPicPr/>
          <p:nvPr/>
        </p:nvPicPr>
        <p:blipFill>
          <a:blip r:embed="rId1"/>
          <a:stretch/>
        </p:blipFill>
        <p:spPr>
          <a:xfrm>
            <a:off x="4267080" y="2514600"/>
            <a:ext cx="457200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seaside hotel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a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 hotel(masculine), nosotros hemos descomprimido (USE PRETERITE TENSE AND CHECK VOCABULARY. WHAT IS “DESCOMPRIMIR”? nuestas bol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la hotel (MASCULINE) , mi (AGREES WITH AMIGOS) amigos y yo tenimos (CHECK IRREGULAR PRETERITE FORM OF TENER) muy (=“WE HAD VERY FOOD?) comida y fuistimos(CHECK PRETERITE VERB FORM OF “IR”) nadamos (SECOND VERB IS ALWAYS IN INFINITIVE FORM = WE WEN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SW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easide sea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laya era (USE PRETERITE TENSE) muy fantasico (CHECK SPELLING)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arena era calido (AGREES WITH ARENA, y el agua era muy entrecortado (MEANING OF ‘ENTRECORTADO”? NEVER HEARD OF IT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sea side pizza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 restau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(NOT NECESSARY) Sea Side, las(A MASCULINE WORD)restaurantes era(USE PRETERITE AND CHECK SUBJECT-VERB AGREEMENT muy delicioso (AGREES WITH RESTAURANT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comida de(DOESN’T NEED “DE”) Italiano (AGREES WITH LA COMIDA) era (USE PRETERITE TENSE)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 odio la comida de mar (FIND WORD FOR “SEAFOOD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rid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Paseo Marit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el paseo maritimo, hay muchas hacieron (MAKES NO SENSE = ON THE BOARDWALK THERE ARE A LOT “HACIERON = NOT A WORD). Hay muchas (NEEDS TO AGREE WITH THE NOUN IT:’S MODIFY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eos, montana  rusas NEEDS TO AGREE WITH THE NOUN IT:’S MODIFYING), y ar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aseo maritimo era muy diversion (USE ADJECTIVE. THIS SAYS “THE BOARDWALK WAS VERY ENTERTAIN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ver a la(DOESN’T NEED TO SAY THE RETURN TO “THE” SUFFERN) Suff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volvimos (= IN THE WE RETURNED) a la (DOESN’T NEED TO SAY THE RETURN TO “THE” SUFFERN) Suffern, nosotros fuitimos (NOT A VERB – CHECK FORM) a la (NEEDS MASCULINE) centro de Palis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 (NEEDS MASCULINE)centro de Palisades, fuistimos (NOT A VERB) a el (A + EL = ?) cine y miraron (THEY LOOKED? OR WE LOOKED?) una pelicu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la pelicula, fuistimos (NOT A VERB) a la casa de mi amigo y jugaron THEY PLAYED OR WE PLAYED futbol de (DOES NOT NEED “DE”) americ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o (NEEDS A VERB HERE) mi vacacion (VACATION IS ALWAYS A PLURAL WORD IN SPANISH) en el invireno (CHECK SPE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1:55:55Z</dcterms:created>
  <dc:creator>Preferred Customer</dc:creator>
  <dc:description/>
  <dc:language>en-US</dc:language>
  <cp:lastModifiedBy>Administrator</cp:lastModifiedBy>
  <dcterms:modified xsi:type="dcterms:W3CDTF">2009-12-08T14:20:36Z</dcterms:modified>
  <cp:revision>4</cp:revision>
  <dc:subject/>
  <dc:title>Sea Side</dc:title>
</cp:coreProperties>
</file>