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A26-907C-406E-98DD-3ED6C410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D30-8077-40C8-93AD-DB96651A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024-1FFC-49C7-AFAF-5E242B42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329-3922-4DB6-AC9E-0E776D8D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C1A-7265-42AA-859D-64ED0924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DDC-92BD-4876-8E92-05DFE720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F90-C604-4217-A0B7-92F0C0FD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136-8CBF-4CF4-B9FB-C16C2C28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858-C271-4BC4-BC06-8057B2A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114-AF22-4075-B886-5F8D815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4B2-AA56-453A-9565-51E02E88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E34-8CDA-44DC-A3A9-2D62658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417B-A07B-46AD-B99B-7807D189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ea Side"/>
          <p:cNvPicPr/>
          <p:nvPr/>
        </p:nvPicPr>
        <p:blipFill>
          <a:blip r:embed="rId1"/>
          <a:stretch/>
        </p:blipFill>
        <p:spPr>
          <a:xfrm>
            <a:off x="-304920" y="-609480"/>
            <a:ext cx="10820520" cy="811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 viajo (Check spelling) a la(not necessary to say “My trip to the Seaside” since Sea Side is a proper noun) Sea S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60955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ike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automo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utomovil, hay muchas bolsas de maletas(makes no sense. “In the car, there are a lot of bags of suitc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 fuistimos (check verb “ir” in preterite) muchas esatcion (check spelling) de gasolinas. Nosotros molestamos mi amigos madre (check word order = needs to be “ the friends of my mother”) tam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panish priject"/>
          <p:cNvPicPr/>
          <p:nvPr/>
        </p:nvPicPr>
        <p:blipFill>
          <a:blip r:embed="rId1"/>
          <a:stretch/>
        </p:blipFill>
        <p:spPr>
          <a:xfrm>
            <a:off x="4267080" y="2514600"/>
            <a:ext cx="45720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easide hotel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a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 hotel(masculine), nosotros hemos descomprimido (USE PRETERITE TENSE AND CHECK VOCABULARY. WHAT IS “DESCOMPRIMIR”? nuestas bol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a hotel (MASCULINE) , mi (AGREES WITH AMIGOS) amigos y yo tenimos (CHECK IRREGULAR PRETERITE FORM OF TENER) muy (=“WE HAD VERY FOOD?) comida y fuistimos(CHECK PRETERITE VERB FORM OF “IR”) nadamos (SECOND VERB IS ALWAYS IN INFINITIVE FORM = WE WEN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SW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easide sea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laya era (USE PRETERITE TENSE) muy fantasico (CHECK SPELLING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arena era calido (AGREES WITH ARENA, y el agua era muy entrecortado (MEANING OF ‘ENTRECORTADO”? NEVER HEARD OF I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sea side pizza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restau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(NOT NECESSARY) Sea Side, las(A MASCULINE WORD)restaurantes era(USE PRETERITE AND CHECK SUBJECT-VERB AGREEMENT muy delicioso (AGREES WITH RESTAURANT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omida de(DOESN’T NEED “DE”) Italiano (AGREES WITH LA COMIDA) era (USE PRETERITE TENSE)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 odio la comida de mar (FIND WORD FOR “SEAFOOD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id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Paseo Marit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l paseo maritimo, hay muchas hacieron (MAKES NO SENSE = ON THE BOARDWALK THERE ARE A LOT “HACIERON = NOT A WORD). Hay muchas (NEEDS TO AGREE WITH THE NOUN IT:’S MODIFY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eos, montana  rusas NEEDS TO AGREE WITH THE NOUN IT:’S MODIFYING), y ar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aseo maritimo era muy diversion (USE ADJECTIVE. THIS SAYS “THE BOARDWALK WAS VERY ENTERTAIN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ver a la(DOESN’T NEED TO SAY THE RETURN TO “THE” SUFFERN) Suff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volvimos (= IN THE WE RETURNED) a la (DOESN’T NEED TO SAY THE RETURN TO “THE” SUFFERN) Suffern, nosotros fuitimos (NOT A VERB – CHECK FORM) a la (NEEDS MASCULINE) centro de Palis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 (NEEDS MASCULINE)centro de Palisades, fuistimos (NOT A VERB) a el (A + EL = ?) cine y miraron (THEY LOOKED? OR WE LOOKED?) una peli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la pelicula, fuistimos (NOT A VERB) a la casa de mi amigo y jugaron THEY PLAYED OR WE PLAYED futbol de (DOES NOT NEED “DE”) americ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 (NEEDS A VERB HERE) mi vacacion (VACATION IS ALWAYS A PLURAL WORD IN SPANISH) en el invireno (CHECK SPE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55:55Z</dcterms:created>
  <dc:creator>Preferred Customer</dc:creator>
  <dc:description/>
  <dc:language>en-US</dc:language>
  <cp:lastModifiedBy>Administrator</cp:lastModifiedBy>
  <dcterms:modified xsi:type="dcterms:W3CDTF">2009-12-08T14:20:36Z</dcterms:modified>
  <cp:revision>4</cp:revision>
  <dc:subject/>
  <dc:title>Sea Side</dc:title>
</cp:coreProperties>
</file>