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36E-C7E6-4652-994B-56F8302A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1D2-3477-403D-9D53-33FAF56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D43-BC1B-4530-B875-D3102496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B5F-04D1-4B03-AA7C-41E3868C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41F-8878-45B6-8868-E0CFD89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465-F259-4455-8DDD-DDE3AC4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5EE-BB88-4DE3-B322-1F50737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8D9-EA94-4C6F-B5B5-A128244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4BC-6AE5-4412-89A4-DC64154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591-CE5D-4D4F-853D-6112CBC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452-9EBB-4EF7-A6DD-01AD4FB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986-9667-440E-B542-88AF702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968-231B-4D26-9D8B-72EFB406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ea Side"/>
          <p:cNvPicPr/>
          <p:nvPr/>
        </p:nvPicPr>
        <p:blipFill>
          <a:blip r:embed="rId1"/>
          <a:stretch/>
        </p:blipFill>
        <p:spPr>
          <a:xfrm>
            <a:off x="-304920" y="-609480"/>
            <a:ext cx="10820520" cy="811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 viajo (Check spelling) a la(not necessary to say “My trip to the Seaside” since Sea Side is a proper noun) Sea S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60955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ke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automo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utomovil, hay muchas bolsas de maletas(makes no sense. “In the car, there are a lot of bags of suitc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fuistimos (check verb “ir” in preterite) muchas esatcion (check spelling) de gasolinas. Nosotros molestamos mi amigos madre (check word order = needs to be “ the friends of my mother”) tam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anish priject"/>
          <p:cNvPicPr/>
          <p:nvPr/>
        </p:nvPicPr>
        <p:blipFill>
          <a:blip r:embed="rId1"/>
          <a:stretch/>
        </p:blipFill>
        <p:spPr>
          <a:xfrm>
            <a:off x="4267080" y="25146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easide hotel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 hotel(masculine), nosotros hemos descomprimido (USE PRETERITE TENSE AND CHECK VOCABULARY. WHAT IS “DESCOMPRIMIR”? nuestas bol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hotel (MASCULINE) , mi (AGREES WITH AMIGOS) amigos y yo tenimos (CHECK IRREGULAR PRETERITE FORM OF TENER) muy (=“WE HAD VERY FOOD?) comida y fuistimos(CHECK PRETERITE VERB FORM OF “IR”) nadamos (SECOND VERB IS ALWAYS IN INFINITIVE FORM = WE WEN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SW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aside sea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laya era (USE PRETERITE TENSE) muy fantasico (CHECK SPELLING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rena era calido (AGREES WITH ARENA, y el agua era muy entrecortado (MEANING OF ‘ENTRECORTADO”? NEVER HEARD OF I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sea side pizza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restau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(NOT NECESSARY) Sea Side, las(A MASCULINE WORD)restaurantes era(USE PRETERITE AND CHECK SUBJECT-VERB AGREEMENT muy delicioso (AGREES WITH RESTAURANT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mida de(DOESN’T NEED “DE”) Italiano (AGREES WITH LA COMIDA) era (USE PRETERITE TENSE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 odio la comida de mar (FIND WORD FOR “SEAFOOD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eo Mari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l paseo maritimo, hay muchas hacieron (MAKES NO SENSE = ON THE BOARDWALK THERE ARE A LOT “HACIERON = NOT A WORD). Hay muchas (NEEDS TO AGREE WITH THE NOUN IT:’S MODIF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eos, montana  rusas NEEDS TO AGREE WITH THE NOUN IT:’S MODIFYING), y ar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aseo maritimo era muy diversion (USE ADJECTIVE. THIS SAYS “THE BOARDWALK WAS VERY ENTERTAI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er a la(DOESN’T NEED TO SAY THE RETURN TO “THE” SUFFERN) Suf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volvimos (= IN THE WE RETURNED) a la (DOESN’T NEED TO SAY THE RETURN TO “THE” SUFFERN) Suffern, nosotros fuitimos (NOT A VERB – CHECK FORM) a la (NEEDS MASCULINE) centro de Palis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 (NEEDS MASCULINE)centro de Palisades, fuistimos (NOT A VERB) a el (A + EL = ?) cine y miraron (THEY LOOKED? OR WE LOOKED?) una peli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la pelicula, fuistimos (NOT A VERB) a la casa de mi amigo y jugaron THEY PLAYED OR WE PLAYED futbol de (DOES NOT NEED “DE”)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 (NEEDS A VERB HERE) mi vacacion (VACATION IS ALWAYS A PLURAL WORD IN SPANISH) en el invireno (CHECK S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5:55Z</dcterms:created>
  <dc:creator>Preferred Customer</dc:creator>
  <dc:description/>
  <dc:language>en-US</dc:language>
  <cp:lastModifiedBy>Administrator</cp:lastModifiedBy>
  <dcterms:modified xsi:type="dcterms:W3CDTF">2009-12-08T14:20:36Z</dcterms:modified>
  <cp:revision>4</cp:revision>
  <dc:subject/>
  <dc:title>Sea Side</dc:title>
</cp:coreProperties>
</file>