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ECF-9EF8-433F-8BF8-E4B2DBD6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60C-27FA-45C4-BFAD-FEAB573B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A63-69F5-4F5E-97E8-D5B80290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A5A-F378-4C49-9BB1-78857F43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C68-7531-4961-BE8D-5E19952B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4C6-014B-43F6-B88A-5577FCE8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509-2B97-40B3-A205-95FBBACB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AB7-B2D7-4088-B65C-EA81E823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25B-2ECD-496B-A043-3A0124FB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7AA-AE85-4CD6-9F02-16460450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EA3-EE99-4BC7-BCA7-20BB7F2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5EF-C534-4E30-91F8-AB0E7648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54C3-871F-42E3-A669-29CA5A0D1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Titanic_poste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y mi familia fuimos a Bermuda en un cru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orwegian Dawn Cruise Ship"/>
          <p:cNvPicPr/>
          <p:nvPr/>
        </p:nvPicPr>
        <p:blipFill>
          <a:blip r:embed="rId1"/>
          <a:stretch/>
        </p:blipFill>
        <p:spPr>
          <a:xfrm>
            <a:off x="1981080" y="2057400"/>
            <a:ext cx="5105520" cy="19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sacamos retratos con pira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lick here for a larger view."/>
          <p:cNvPicPr/>
          <p:nvPr/>
        </p:nvPicPr>
        <p:blipFill>
          <a:blip r:embed="rId1"/>
          <a:stretch/>
        </p:blipFill>
        <p:spPr>
          <a:xfrm>
            <a:off x="3809880" y="1219320"/>
            <a:ext cx="1930680" cy="144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ecio del cuarto fue $6,000.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MCj04413140000[1]"/>
          <p:cNvPicPr/>
          <p:nvPr/>
        </p:nvPicPr>
        <p:blipFill>
          <a:blip r:embed="rId1"/>
          <a:stretch/>
        </p:blipFill>
        <p:spPr>
          <a:xfrm>
            <a:off x="3276720" y="762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nosotros fuimos al cuarto. En la television estaban jugandoTitan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200px-Titanic_po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685800"/>
            <a:ext cx="1905120" cy="275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fuimos a comer en el resta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ppanyaki en el cru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wn_rest_teppanyaki"/>
          <p:cNvPicPr/>
          <p:nvPr/>
        </p:nvPicPr>
        <p:blipFill>
          <a:blip r:embed="rId1"/>
          <a:stretch/>
        </p:blipFill>
        <p:spPr>
          <a:xfrm>
            <a:off x="2819520" y="685800"/>
            <a:ext cx="3504960" cy="253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familia nadó y yo leí en frente de la pisc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232323232%7Ffp53284%3Enu%3D3299%3E242%3E234%3EWSNRCG%3D32%3A88836%3C2325nu0mrj"/>
          <p:cNvPicPr/>
          <p:nvPr/>
        </p:nvPicPr>
        <p:blipFill>
          <a:blip r:embed="rId1"/>
          <a:stretch/>
        </p:blipFill>
        <p:spPr>
          <a:xfrm>
            <a:off x="1143000" y="457200"/>
            <a:ext cx="3048120" cy="1708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lick here for a larger view."/>
          <p:cNvPicPr/>
          <p:nvPr/>
        </p:nvPicPr>
        <p:blipFill>
          <a:blip r:embed="rId2"/>
          <a:stretch/>
        </p:blipFill>
        <p:spPr>
          <a:xfrm>
            <a:off x="4724280" y="1447920"/>
            <a:ext cx="3581640" cy="1977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mos un coche y rodeamos  la isla de Bermu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tatic.flickr.com/1115/1097588620_48f65520a0.jpg"/>
          <p:cNvPicPr/>
          <p:nvPr/>
        </p:nvPicPr>
        <p:blipFill>
          <a:blip r:embed="rId1"/>
          <a:stretch/>
        </p:blipFill>
        <p:spPr>
          <a:xfrm>
            <a:off x="2819520" y="685800"/>
            <a:ext cx="3352680" cy="25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vimos los delfines y mi hermana nadó con un delfí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lick here for a larger view."/>
          <p:cNvPicPr/>
          <p:nvPr/>
        </p:nvPicPr>
        <p:blipFill>
          <a:blip r:embed="rId1"/>
          <a:stretch/>
        </p:blipFill>
        <p:spPr>
          <a:xfrm>
            <a:off x="2971800" y="533520"/>
            <a:ext cx="3276720" cy="3174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1:47:47Z</dcterms:created>
  <dc:creator>McDonald's Corporation</dc:creator>
  <dc:description/>
  <dc:language>en-US</dc:language>
  <cp:lastModifiedBy>anne metaxas</cp:lastModifiedBy>
  <dcterms:modified xsi:type="dcterms:W3CDTF">2009-12-09T21:27:49Z</dcterms:modified>
  <cp:revision>6</cp:revision>
  <dc:subject/>
  <dc:title>Vaccion</dc:title>
</cp:coreProperties>
</file>