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3D5C-C182-402B-B97A-49C10043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7502-218E-4932-BD3C-28C70FDC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8727-BACB-4155-B316-E7EE3D22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7A61-3CFE-4DAD-A9F6-95A9456FA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E2C5-0BF1-4ED1-99C8-51FC96ED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5E48-89B1-4173-A778-D668B1BE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353A-8AE2-4142-8FC5-EA69E69E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E689-6EDD-4F21-B76D-F90D56E0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0167-1707-419F-BCFD-08FFE8B9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9071-8456-4F6E-8AA2-20D4391C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66C3-55AA-4A8C-AC3E-E15B48AA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3503-5C81-4567-B191-9AC2E4AA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9867-D04F-4CCC-B185-E07530C25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Titanic_poster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 y mi familia fuimos a Bermuda en un cru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Norwegian Dawn Cruise Ship"/>
          <p:cNvPicPr/>
          <p:nvPr/>
        </p:nvPicPr>
        <p:blipFill>
          <a:blip r:embed="rId1"/>
          <a:stretch/>
        </p:blipFill>
        <p:spPr>
          <a:xfrm>
            <a:off x="1981080" y="2057400"/>
            <a:ext cx="5105520" cy="194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 sacamos retratos con pira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Click here for a larger view."/>
          <p:cNvPicPr/>
          <p:nvPr/>
        </p:nvPicPr>
        <p:blipFill>
          <a:blip r:embed="rId1"/>
          <a:stretch/>
        </p:blipFill>
        <p:spPr>
          <a:xfrm>
            <a:off x="3809880" y="1219320"/>
            <a:ext cx="1930680" cy="1447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recio del cuarto fue $6,000.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MCj04413140000[1]"/>
          <p:cNvPicPr/>
          <p:nvPr/>
        </p:nvPicPr>
        <p:blipFill>
          <a:blip r:embed="rId1"/>
          <a:stretch/>
        </p:blipFill>
        <p:spPr>
          <a:xfrm>
            <a:off x="3276720" y="7621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ndo nosotros fuimos al cuarto. En la television estaban jugandoTitan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200px-Titanic_post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685800"/>
            <a:ext cx="1905120" cy="2752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 fuimos a comer en el restaur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ppanyaki en el cru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dwn_rest_teppanyaki"/>
          <p:cNvPicPr/>
          <p:nvPr/>
        </p:nvPicPr>
        <p:blipFill>
          <a:blip r:embed="rId1"/>
          <a:stretch/>
        </p:blipFill>
        <p:spPr>
          <a:xfrm>
            <a:off x="2819520" y="685800"/>
            <a:ext cx="3504960" cy="2533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familia nadó y yo leí en frente de la pisc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232323232%7Ffp53284%3Enu%3D3299%3E242%3E234%3EWSNRCG%3D32%3A88836%3C2325nu0mrj"/>
          <p:cNvPicPr/>
          <p:nvPr/>
        </p:nvPicPr>
        <p:blipFill>
          <a:blip r:embed="rId1"/>
          <a:stretch/>
        </p:blipFill>
        <p:spPr>
          <a:xfrm>
            <a:off x="1143000" y="457200"/>
            <a:ext cx="3048120" cy="1708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Click here for a larger view."/>
          <p:cNvPicPr/>
          <p:nvPr/>
        </p:nvPicPr>
        <p:blipFill>
          <a:blip r:embed="rId2"/>
          <a:stretch/>
        </p:blipFill>
        <p:spPr>
          <a:xfrm>
            <a:off x="4724280" y="1447920"/>
            <a:ext cx="3581640" cy="19778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tamos un coche y rodeamos  la isla de Bermu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tatic.flickr.com/1115/1097588620_48f65520a0.jpg"/>
          <p:cNvPicPr/>
          <p:nvPr/>
        </p:nvPicPr>
        <p:blipFill>
          <a:blip r:embed="rId1"/>
          <a:stretch/>
        </p:blipFill>
        <p:spPr>
          <a:xfrm>
            <a:off x="2819520" y="685800"/>
            <a:ext cx="3352680" cy="2506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 vimos los delfines y mi hermana nadó con un delfí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Click here for a larger view."/>
          <p:cNvPicPr/>
          <p:nvPr/>
        </p:nvPicPr>
        <p:blipFill>
          <a:blip r:embed="rId1"/>
          <a:stretch/>
        </p:blipFill>
        <p:spPr>
          <a:xfrm>
            <a:off x="2971800" y="533520"/>
            <a:ext cx="3276720" cy="3174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21:47:47Z</dcterms:created>
  <dc:creator>McDonald's Corporation</dc:creator>
  <dc:description/>
  <dc:language>en-US</dc:language>
  <cp:lastModifiedBy>anne metaxas</cp:lastModifiedBy>
  <dcterms:modified xsi:type="dcterms:W3CDTF">2009-12-09T21:27:49Z</dcterms:modified>
  <cp:revision>6</cp:revision>
  <dc:subject/>
  <dc:title>Vaccion</dc:title>
</cp:coreProperties>
</file>