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E5EB-3CD5-4AB5-9339-887B4153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9FB8-2C3E-47E7-A38F-8B27F70B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0D0D-5E7E-4554-836A-DA4ED8A9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5599-325D-407C-9881-4A3BD595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B537-75C4-471C-A54A-4F6F495D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415B-32A4-4A0F-B7AC-E3621381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B606-509F-4549-9607-89B96151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7290-6734-4242-AC15-AF4D205C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FCD2-52D6-4239-9E56-C3C59F50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14FE-98FF-4A34-B6AD-EFA5237B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ACBF-9BDB-497E-BD9A-91B9A13D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555B-24F7-40D8-98FA-41CAF633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964A-73B3-43C4-B14E-00E365B66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Titanic_poster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y mi familia fuimos a Bermuda en un cru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Norwegian Dawn Cruise Ship"/>
          <p:cNvPicPr/>
          <p:nvPr/>
        </p:nvPicPr>
        <p:blipFill>
          <a:blip r:embed="rId1"/>
          <a:stretch/>
        </p:blipFill>
        <p:spPr>
          <a:xfrm>
            <a:off x="1981080" y="2057400"/>
            <a:ext cx="5105520" cy="194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sacamos retratos con pira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Click here for a larger view."/>
          <p:cNvPicPr/>
          <p:nvPr/>
        </p:nvPicPr>
        <p:blipFill>
          <a:blip r:embed="rId1"/>
          <a:stretch/>
        </p:blipFill>
        <p:spPr>
          <a:xfrm>
            <a:off x="3809880" y="1219320"/>
            <a:ext cx="1930680" cy="144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recio del cuarto fue $6,000.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MCj04413140000[1]"/>
          <p:cNvPicPr/>
          <p:nvPr/>
        </p:nvPicPr>
        <p:blipFill>
          <a:blip r:embed="rId1"/>
          <a:stretch/>
        </p:blipFill>
        <p:spPr>
          <a:xfrm>
            <a:off x="3276720" y="7621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do nosotros fuimos al cuarto. En la television estaban jugandoTitan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200px-Titanic_post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685800"/>
            <a:ext cx="1905120" cy="2752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fuimos a comer en el restau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ppanyaki en el cru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dwn_rest_teppanyaki"/>
          <p:cNvPicPr/>
          <p:nvPr/>
        </p:nvPicPr>
        <p:blipFill>
          <a:blip r:embed="rId1"/>
          <a:stretch/>
        </p:blipFill>
        <p:spPr>
          <a:xfrm>
            <a:off x="2819520" y="685800"/>
            <a:ext cx="3504960" cy="2533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familia nadó y yo leí en frente de la pisc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232323232%7Ffp53284%3Enu%3D3299%3E242%3E234%3EWSNRCG%3D32%3A88836%3C2325nu0mrj"/>
          <p:cNvPicPr/>
          <p:nvPr/>
        </p:nvPicPr>
        <p:blipFill>
          <a:blip r:embed="rId1"/>
          <a:stretch/>
        </p:blipFill>
        <p:spPr>
          <a:xfrm>
            <a:off x="1143000" y="457200"/>
            <a:ext cx="3048120" cy="1708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Click here for a larger view."/>
          <p:cNvPicPr/>
          <p:nvPr/>
        </p:nvPicPr>
        <p:blipFill>
          <a:blip r:embed="rId2"/>
          <a:stretch/>
        </p:blipFill>
        <p:spPr>
          <a:xfrm>
            <a:off x="4724280" y="1447920"/>
            <a:ext cx="3581640" cy="19778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tamos un coche y rodeamos  la isla de Bermu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tatic.flickr.com/1115/1097588620_48f65520a0.jpg"/>
          <p:cNvPicPr/>
          <p:nvPr/>
        </p:nvPicPr>
        <p:blipFill>
          <a:blip r:embed="rId1"/>
          <a:stretch/>
        </p:blipFill>
        <p:spPr>
          <a:xfrm>
            <a:off x="2819520" y="685800"/>
            <a:ext cx="3352680" cy="250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vimos los delfines y mi hermana nadó con un delfí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Click here for a larger view."/>
          <p:cNvPicPr/>
          <p:nvPr/>
        </p:nvPicPr>
        <p:blipFill>
          <a:blip r:embed="rId1"/>
          <a:stretch/>
        </p:blipFill>
        <p:spPr>
          <a:xfrm>
            <a:off x="2971800" y="533520"/>
            <a:ext cx="3276720" cy="3174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21:47:47Z</dcterms:created>
  <dc:creator>McDonald's Corporation</dc:creator>
  <dc:description/>
  <dc:language>en-US</dc:language>
  <cp:lastModifiedBy>anne metaxas</cp:lastModifiedBy>
  <dcterms:modified xsi:type="dcterms:W3CDTF">2009-12-09T21:27:49Z</dcterms:modified>
  <cp:revision>6</cp:revision>
  <dc:subject/>
  <dc:title>Vaccion</dc:title>
</cp:coreProperties>
</file>