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BF486-31D3-487F-A11D-4D041E3FE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56C09-807E-494F-86E7-C0AC2B0FC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E7EE2-C77B-4509-BD11-04358FB42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36198-25C1-4A2F-8CC1-DC8879FBA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25D44-F2CF-42D1-8228-8E04E1D2A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1FB87-ABFB-4859-94C3-BC53432D1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381A0-1D74-41CB-8963-45E0DA465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76439-581F-414E-84AF-13E0A4822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4E495-A8D8-4E82-AFC9-F1A04423C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16B60-980E-403F-AC2A-5682183C0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F432F-228F-49A2-B1D3-042CDE7EA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4E370-7E3F-40E8-A868-686278CDC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51623-5E43-420A-A06C-96BE68D5ED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en.wikipedia.org/wiki/File:Titanic_poster.jpg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cac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4792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 y mi familia fuimos a Bermuda en un crucer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Norwegian Dawn Cruise Ship"/>
          <p:cNvPicPr/>
          <p:nvPr/>
        </p:nvPicPr>
        <p:blipFill>
          <a:blip r:embed="rId1"/>
          <a:stretch/>
        </p:blipFill>
        <p:spPr>
          <a:xfrm>
            <a:off x="1981080" y="2057400"/>
            <a:ext cx="5105520" cy="19432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sotros sacamos retratos con pirat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7" descr="Click here for a larger view."/>
          <p:cNvPicPr/>
          <p:nvPr/>
        </p:nvPicPr>
        <p:blipFill>
          <a:blip r:embed="rId1"/>
          <a:stretch/>
        </p:blipFill>
        <p:spPr>
          <a:xfrm>
            <a:off x="3809880" y="1219320"/>
            <a:ext cx="1930680" cy="14475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 precio del cuarto fue $6,000.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6" descr="MCj04413140000[1]"/>
          <p:cNvPicPr/>
          <p:nvPr/>
        </p:nvPicPr>
        <p:blipFill>
          <a:blip r:embed="rId1"/>
          <a:stretch/>
        </p:blipFill>
        <p:spPr>
          <a:xfrm>
            <a:off x="3276720" y="762120"/>
            <a:ext cx="2743200" cy="274320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ando nosotros fuimos al cuarto. En la television estaban jugandoTitani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7" descr="200px-Titanic_poster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81280" y="685800"/>
            <a:ext cx="1905120" cy="275256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sotros fuimos a comer en el restaura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ppanyaki en el crucer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7" descr="dwn_rest_teppanyaki"/>
          <p:cNvPicPr/>
          <p:nvPr/>
        </p:nvPicPr>
        <p:blipFill>
          <a:blip r:embed="rId1"/>
          <a:stretch/>
        </p:blipFill>
        <p:spPr>
          <a:xfrm>
            <a:off x="2819520" y="685800"/>
            <a:ext cx="3504960" cy="25336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 familia nadó y yo leí en frente de la piscin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6" descr="232323232%7Ffp53284%3Enu%3D3299%3E242%3E234%3EWSNRCG%3D32%3A88836%3C2325nu0mrj"/>
          <p:cNvPicPr/>
          <p:nvPr/>
        </p:nvPicPr>
        <p:blipFill>
          <a:blip r:embed="rId1"/>
          <a:stretch/>
        </p:blipFill>
        <p:spPr>
          <a:xfrm>
            <a:off x="1143000" y="457200"/>
            <a:ext cx="3048120" cy="17082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8" descr="Click here for a larger view."/>
          <p:cNvPicPr/>
          <p:nvPr/>
        </p:nvPicPr>
        <p:blipFill>
          <a:blip r:embed="rId2"/>
          <a:stretch/>
        </p:blipFill>
        <p:spPr>
          <a:xfrm>
            <a:off x="4724280" y="1447920"/>
            <a:ext cx="3581640" cy="1977840"/>
          </a:xfrm>
          <a:prstGeom prst="rect">
            <a:avLst/>
          </a:prstGeom>
          <a:ln w="0">
            <a:noFill/>
          </a:ln>
        </p:spPr>
      </p:pic>
    </p:spTree>
  </p:cSld>
  <p:transition>
    <p:cut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ntamos un coche y rodeamos  la isla de Bermud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7" descr="static.flickr.com/1115/1097588620_48f65520a0.jpg"/>
          <p:cNvPicPr/>
          <p:nvPr/>
        </p:nvPicPr>
        <p:blipFill>
          <a:blip r:embed="rId1"/>
          <a:stretch/>
        </p:blipFill>
        <p:spPr>
          <a:xfrm>
            <a:off x="2819520" y="685800"/>
            <a:ext cx="3352680" cy="25066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sotros vimos los delfines y mi hermana nadó con un delfí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7" descr="Click here for a larger view."/>
          <p:cNvPicPr/>
          <p:nvPr/>
        </p:nvPicPr>
        <p:blipFill>
          <a:blip r:embed="rId1"/>
          <a:stretch/>
        </p:blipFill>
        <p:spPr>
          <a:xfrm>
            <a:off x="2971800" y="533520"/>
            <a:ext cx="3276720" cy="317484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6T21:47:47Z</dcterms:created>
  <dc:creator>McDonald's Corporation</dc:creator>
  <dc:description/>
  <dc:language>en-US</dc:language>
  <cp:lastModifiedBy>anne metaxas</cp:lastModifiedBy>
  <dcterms:modified xsi:type="dcterms:W3CDTF">2009-12-09T21:27:49Z</dcterms:modified>
  <cp:revision>6</cp:revision>
  <dc:subject/>
  <dc:title>Vaccion</dc:title>
</cp:coreProperties>
</file>