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CC4-0F2A-47D9-8B96-3C35B7FF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8FE-CD78-4BE9-AFE9-CEE6F42E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378-113B-43E8-A88B-ABD31B4E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770-6C66-4707-B24A-746D5815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370-8DDE-4685-8915-1BAFC4D7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75F-70D1-40AB-A267-2701CC35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3FE-30F1-480A-B944-98311B77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EFD-1D0E-4547-865F-EA420F06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2D4-0B00-4FFF-A7C3-9433AAC8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4AD-E37F-4E0C-9A07-16E829DE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A29-AC2A-4129-B6FB-84DCF01C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AAE-C710-44FA-83D3-950353B0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D9CE-47F9-4A91-BC32-5316B37D3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Titanic_poste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y mi familia fuimos a Bermuda en un cru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orwegian Dawn Cruise Ship"/>
          <p:cNvPicPr/>
          <p:nvPr/>
        </p:nvPicPr>
        <p:blipFill>
          <a:blip r:embed="rId1"/>
          <a:stretch/>
        </p:blipFill>
        <p:spPr>
          <a:xfrm>
            <a:off x="1981080" y="2057400"/>
            <a:ext cx="5105520" cy="19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sacamos retratos con pir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lick here for a larger view."/>
          <p:cNvPicPr/>
          <p:nvPr/>
        </p:nvPicPr>
        <p:blipFill>
          <a:blip r:embed="rId1"/>
          <a:stretch/>
        </p:blipFill>
        <p:spPr>
          <a:xfrm>
            <a:off x="3809880" y="1219320"/>
            <a:ext cx="1930680" cy="144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ecio del cuarto fue $6,000.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MCj04413140000[1]"/>
          <p:cNvPicPr/>
          <p:nvPr/>
        </p:nvPicPr>
        <p:blipFill>
          <a:blip r:embed="rId1"/>
          <a:stretch/>
        </p:blipFill>
        <p:spPr>
          <a:xfrm>
            <a:off x="3276720" y="762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nosotros fuimos al cuarto. En la television estaban jugandoTitan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200px-Titanic_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685800"/>
            <a:ext cx="1905120" cy="275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fuimos a comer en el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ppanyaki en el cru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wn_rest_teppanyaki"/>
          <p:cNvPicPr/>
          <p:nvPr/>
        </p:nvPicPr>
        <p:blipFill>
          <a:blip r:embed="rId1"/>
          <a:stretch/>
        </p:blipFill>
        <p:spPr>
          <a:xfrm>
            <a:off x="2819520" y="685800"/>
            <a:ext cx="3504960" cy="253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familia nadó y yo leí en frente de la pisc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232323232%7Ffp53284%3Enu%3D3299%3E242%3E234%3EWSNRCG%3D32%3A88836%3C2325nu0mrj"/>
          <p:cNvPicPr/>
          <p:nvPr/>
        </p:nvPicPr>
        <p:blipFill>
          <a:blip r:embed="rId1"/>
          <a:stretch/>
        </p:blipFill>
        <p:spPr>
          <a:xfrm>
            <a:off x="1143000" y="457200"/>
            <a:ext cx="3048120" cy="170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lick here for a larger view."/>
          <p:cNvPicPr/>
          <p:nvPr/>
        </p:nvPicPr>
        <p:blipFill>
          <a:blip r:embed="rId2"/>
          <a:stretch/>
        </p:blipFill>
        <p:spPr>
          <a:xfrm>
            <a:off x="4724280" y="1447920"/>
            <a:ext cx="3581640" cy="1977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mos un coche y rodeamos  la isla de Bermu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tatic.flickr.com/1115/1097588620_48f65520a0.jpg"/>
          <p:cNvPicPr/>
          <p:nvPr/>
        </p:nvPicPr>
        <p:blipFill>
          <a:blip r:embed="rId1"/>
          <a:stretch/>
        </p:blipFill>
        <p:spPr>
          <a:xfrm>
            <a:off x="2819520" y="685800"/>
            <a:ext cx="335268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vimos los delfines y mi hermana nadó con un delfí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lick here for a larger view."/>
          <p:cNvPicPr/>
          <p:nvPr/>
        </p:nvPicPr>
        <p:blipFill>
          <a:blip r:embed="rId1"/>
          <a:stretch/>
        </p:blipFill>
        <p:spPr>
          <a:xfrm>
            <a:off x="2971800" y="533520"/>
            <a:ext cx="3276720" cy="3174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1:47:47Z</dcterms:created>
  <dc:creator>McDonald's Corporation</dc:creator>
  <dc:description/>
  <dc:language>en-US</dc:language>
  <cp:lastModifiedBy>anne metaxas</cp:lastModifiedBy>
  <dcterms:modified xsi:type="dcterms:W3CDTF">2009-12-09T21:27:49Z</dcterms:modified>
  <cp:revision>6</cp:revision>
  <dc:subject/>
  <dc:title>Vaccion</dc:title>
</cp:coreProperties>
</file>