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D06-3F89-45B0-A5F4-C5C71CF3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62D-C1F5-4E4C-9411-8FB7728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A15-C569-4A05-910F-87037E35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F52-0210-44D2-AD96-FA502672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8C3-2BB2-48DD-8CDE-399C02D0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3EF-133D-489D-A32F-08A7F33A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D1C-E8C4-4522-AD40-841B6605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875-2CDC-4D48-9963-8133FD89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59C-AFCE-4A00-A9E0-5F3324F7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B58-DC8B-4441-A638-6696954F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8B9-4911-484D-8203-0777487D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DFF-390D-456D-BF51-5A68FC69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B720-AEBA-4563-8441-01F7935C7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28800" y="1371600"/>
            <a:ext cx="5715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Travel Project</a:t>
            </a:r>
            <a:endParaRPr b="0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  <p:pic>
        <p:nvPicPr>
          <p:cNvPr id="42" name="Picture 6" descr="aruba-beach%5B1%5D"/>
          <p:cNvPicPr/>
          <p:nvPr/>
        </p:nvPicPr>
        <p:blipFill>
          <a:blip r:embed="rId1"/>
          <a:stretch/>
        </p:blipFill>
        <p:spPr>
          <a:xfrm>
            <a:off x="2514600" y="243828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048120" y="5905440"/>
            <a:ext cx="351468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By Christine Jurgensen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133720" y="1447920"/>
            <a:ext cx="5333760" cy="19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Juice ITC"/>
              </a:rPr>
              <a:t>Mi viaje a Aruba </a:t>
            </a:r>
            <a:endParaRPr b="0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Juice ITC"/>
              <a:ea typeface="Juice ITC"/>
            </a:endParaRPr>
          </a:p>
        </p:txBody>
      </p:sp>
      <p:pic>
        <p:nvPicPr>
          <p:cNvPr id="45" name="Picture 6" descr="aruba_2%5B1%5D"/>
          <p:cNvPicPr/>
          <p:nvPr/>
        </p:nvPicPr>
        <p:blipFill>
          <a:blip r:embed="rId2"/>
          <a:stretch/>
        </p:blipFill>
        <p:spPr>
          <a:xfrm>
            <a:off x="762120" y="3429000"/>
            <a:ext cx="3809880" cy="253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ribbean-aruba"/>
          <p:cNvPicPr/>
          <p:nvPr/>
        </p:nvPicPr>
        <p:blipFill>
          <a:blip r:embed="rId3"/>
          <a:stretch/>
        </p:blipFill>
        <p:spPr>
          <a:xfrm>
            <a:off x="4267080" y="2666880"/>
            <a:ext cx="37245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880" y="1143000"/>
            <a:ext cx="86011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Yo viaje en el Avion. En Aruba nosotros viajamos en el carro.</a:t>
            </a:r>
            <a:endParaRPr b="0" lang="en-US" sz="40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  <p:pic>
        <p:nvPicPr>
          <p:cNvPr id="48" name="Picture 6" descr="plane"/>
          <p:cNvPicPr/>
          <p:nvPr/>
        </p:nvPicPr>
        <p:blipFill>
          <a:blip r:embed="rId1"/>
          <a:stretch/>
        </p:blipFill>
        <p:spPr>
          <a:xfrm>
            <a:off x="2133720" y="2133720"/>
            <a:ext cx="50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c6ec"/>
            </a:gs>
            <a:gs pos="50000">
              <a:srgbClr val="ffffff"/>
            </a:gs>
            <a:gs pos="100000">
              <a:srgbClr val="c6c6e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905120" y="1295280"/>
            <a:ext cx="5457600" cy="1562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Yo estuve de vacaciones por 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una semanas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</p:txBody>
      </p:sp>
      <p:pic>
        <p:nvPicPr>
          <p:cNvPr id="50" name="Picture 6" descr="aruba"/>
          <p:cNvPicPr/>
          <p:nvPr/>
        </p:nvPicPr>
        <p:blipFill>
          <a:blip r:embed="rId1"/>
          <a:stretch/>
        </p:blipFill>
        <p:spPr>
          <a:xfrm>
            <a:off x="2133720" y="2743200"/>
            <a:ext cx="4762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990720" y="1523880"/>
            <a:ext cx="731520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o llevo es una vestido, camisas,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 traje de bano.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</p:txBody>
      </p:sp>
      <p:pic>
        <p:nvPicPr>
          <p:cNvPr id="52" name="Picture 9" descr="MCj04127500000[1]"/>
          <p:cNvPicPr/>
          <p:nvPr/>
        </p:nvPicPr>
        <p:blipFill>
          <a:blip r:embed="rId2"/>
          <a:stretch/>
        </p:blipFill>
        <p:spPr>
          <a:xfrm>
            <a:off x="3048120" y="3124080"/>
            <a:ext cx="2768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money_sign"/>
          <p:cNvPicPr/>
          <p:nvPr/>
        </p:nvPicPr>
        <p:blipFill>
          <a:blip r:embed="rId1"/>
          <a:stretch/>
        </p:blipFill>
        <p:spPr>
          <a:xfrm rot="21010200">
            <a:off x="6476760" y="3123720"/>
            <a:ext cx="2396880" cy="343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Pj04426270000[1]"/>
          <p:cNvPicPr/>
          <p:nvPr/>
        </p:nvPicPr>
        <p:blipFill>
          <a:blip r:embed="rId2"/>
          <a:stretch/>
        </p:blipFill>
        <p:spPr>
          <a:xfrm>
            <a:off x="1600200" y="2362320"/>
            <a:ext cx="4572000" cy="3016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7"/>
          <p:cNvSpPr txBox="1"/>
          <p:nvPr/>
        </p:nvSpPr>
        <p:spPr>
          <a:xfrm>
            <a:off x="1523880" y="1143000"/>
            <a:ext cx="66484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La vacaciones costaron mucho dinero. </a:t>
            </a:r>
            <a:endParaRPr b="0" lang="en-US" sz="4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447920" y="1371600"/>
            <a:ext cx="6257880" cy="7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Juice ITC"/>
              </a:rPr>
              <a:t>En el Aruba jugamos en el agua. 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Juice ITC"/>
              <a:ea typeface="Juice ITC"/>
            </a:endParaRPr>
          </a:p>
        </p:txBody>
      </p:sp>
      <p:pic>
        <p:nvPicPr>
          <p:cNvPr id="57" name="Picture 6" descr="the%20beach%20and%20the%20raftman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2:17:59Z</dcterms:created>
  <dc:creator>Christine</dc:creator>
  <dc:description/>
  <dc:language>en-US</dc:language>
  <cp:lastModifiedBy>Administrator</cp:lastModifiedBy>
  <dcterms:modified xsi:type="dcterms:W3CDTF">2009-12-16T18:27:00Z</dcterms:modified>
  <cp:revision>3</cp:revision>
  <dc:subject/>
  <dc:title>Slide 1</dc:title>
</cp:coreProperties>
</file>