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59A-FF5B-4C1E-A422-68353BC9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1CD2-3A75-4BFB-AE12-1E9CF6E6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E7D-EEF1-45A7-A5C5-F7ACBB61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D6E-53F6-42BC-AB92-B4D778D3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795-2E00-4DDB-BEAA-E42A2B06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49D-3448-40BF-A3D1-3D64140F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8BA-B319-4A58-834C-68BA3132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6D1-B455-42FC-B97A-1CF54DE7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364-E873-411D-AEEA-DC09B297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130-EF40-4E4A-9D64-0263F904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C91-9324-48D9-89F9-5FF370D9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A351-938C-49BA-B345-C3253FDF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917E-9C08-47FC-ABAF-4E0315875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828800" y="1371600"/>
            <a:ext cx="57150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QuigleyWiggly"/>
              </a:rPr>
              <a:t>Travel Project</a:t>
            </a:r>
            <a:endParaRPr b="0" lang="en-US" sz="4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QuigleyWiggly"/>
              <a:ea typeface="QuigleyWiggly"/>
            </a:endParaRPr>
          </a:p>
        </p:txBody>
      </p:sp>
      <p:pic>
        <p:nvPicPr>
          <p:cNvPr id="42" name="Picture 6" descr="aruba-beach%5B1%5D"/>
          <p:cNvPicPr/>
          <p:nvPr/>
        </p:nvPicPr>
        <p:blipFill>
          <a:blip r:embed="rId1"/>
          <a:stretch/>
        </p:blipFill>
        <p:spPr>
          <a:xfrm>
            <a:off x="2514600" y="243828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3048120" y="5905440"/>
            <a:ext cx="3514680" cy="95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QuigleyWiggly"/>
              </a:rPr>
              <a:t>By Christine Jurgensen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QuigleyWiggly"/>
              <a:ea typeface="QuigleyWiggl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2133720" y="1447920"/>
            <a:ext cx="5333760" cy="1904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99cc00"/>
                </a:solidFill>
                <a:latin typeface="Juice ITC"/>
              </a:rPr>
              <a:t>Mi viaje a Aruba </a:t>
            </a:r>
            <a:endParaRPr b="0" lang="en-US" sz="8000" spc="1" strike="noStrike">
              <a:ln w="9360">
                <a:solidFill>
                  <a:srgbClr val="99cc00"/>
                </a:solidFill>
                <a:miter/>
              </a:ln>
              <a:solidFill>
                <a:srgbClr val="99cc00"/>
              </a:solidFill>
              <a:latin typeface="Juice ITC"/>
              <a:ea typeface="Juice ITC"/>
            </a:endParaRPr>
          </a:p>
        </p:txBody>
      </p:sp>
      <p:pic>
        <p:nvPicPr>
          <p:cNvPr id="45" name="Picture 6" descr="aruba_2%5B1%5D"/>
          <p:cNvPicPr/>
          <p:nvPr/>
        </p:nvPicPr>
        <p:blipFill>
          <a:blip r:embed="rId2"/>
          <a:stretch/>
        </p:blipFill>
        <p:spPr>
          <a:xfrm>
            <a:off x="762120" y="3429000"/>
            <a:ext cx="3809880" cy="253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aribbean-aruba"/>
          <p:cNvPicPr/>
          <p:nvPr/>
        </p:nvPicPr>
        <p:blipFill>
          <a:blip r:embed="rId3"/>
          <a:stretch/>
        </p:blipFill>
        <p:spPr>
          <a:xfrm>
            <a:off x="4267080" y="2666880"/>
            <a:ext cx="37245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80880" y="1143000"/>
            <a:ext cx="86011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Juice ITC"/>
              </a:rPr>
              <a:t>Yo viaje en el Avion. En Aruba nosotros viajamos en el carro.</a:t>
            </a:r>
            <a:endParaRPr b="0" lang="en-US" sz="40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Juice ITC"/>
              <a:ea typeface="Juice ITC"/>
            </a:endParaRPr>
          </a:p>
        </p:txBody>
      </p:sp>
      <p:pic>
        <p:nvPicPr>
          <p:cNvPr id="48" name="Picture 6" descr="plane"/>
          <p:cNvPicPr/>
          <p:nvPr/>
        </p:nvPicPr>
        <p:blipFill>
          <a:blip r:embed="rId1"/>
          <a:stretch/>
        </p:blipFill>
        <p:spPr>
          <a:xfrm>
            <a:off x="2133720" y="2133720"/>
            <a:ext cx="5000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c6ec"/>
            </a:gs>
            <a:gs pos="50000">
              <a:srgbClr val="ffffff"/>
            </a:gs>
            <a:gs pos="100000">
              <a:srgbClr val="c6c6e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1905120" y="1295280"/>
            <a:ext cx="5457600" cy="1562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6699"/>
                </a:solidFill>
                <a:latin typeface="Juice ITC"/>
              </a:rPr>
              <a:t>Yo estuve de vacaciones por </a:t>
            </a:r>
            <a:endParaRPr b="0" lang="en-US" sz="5400" spc="1" strike="noStrike">
              <a:ln w="9360">
                <a:solidFill>
                  <a:srgbClr val="666699"/>
                </a:solidFill>
                <a:miter/>
              </a:ln>
              <a:solidFill>
                <a:srgbClr val="666699"/>
              </a:solidFill>
              <a:latin typeface="Juice ITC"/>
              <a:ea typeface="Juic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6699"/>
                </a:solidFill>
                <a:latin typeface="Juice ITC"/>
              </a:rPr>
              <a:t>una semanas</a:t>
            </a:r>
            <a:endParaRPr b="0" lang="en-US" sz="5400" spc="1" strike="noStrike">
              <a:ln w="9360">
                <a:solidFill>
                  <a:srgbClr val="666699"/>
                </a:solidFill>
                <a:miter/>
              </a:ln>
              <a:solidFill>
                <a:srgbClr val="666699"/>
              </a:solidFill>
              <a:latin typeface="Juice ITC"/>
              <a:ea typeface="Juice ITC"/>
            </a:endParaRPr>
          </a:p>
        </p:txBody>
      </p:sp>
      <p:pic>
        <p:nvPicPr>
          <p:cNvPr id="50" name="Picture 6" descr="aruba"/>
          <p:cNvPicPr/>
          <p:nvPr/>
        </p:nvPicPr>
        <p:blipFill>
          <a:blip r:embed="rId1"/>
          <a:stretch/>
        </p:blipFill>
        <p:spPr>
          <a:xfrm>
            <a:off x="2133720" y="2743200"/>
            <a:ext cx="47624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990720" y="1523880"/>
            <a:ext cx="731520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8a33"/>
                  </a:solidFill>
                  <a:miter/>
                </a:ln>
                <a:solidFill>
                  <a:srgbClr val="ff8a33"/>
                </a:solidFill>
                <a:latin typeface="Juice ITC"/>
              </a:rPr>
              <a:t>Yo llevo es una vestido, camisas,</a:t>
            </a:r>
            <a:endParaRPr b="0" lang="en-US" sz="3200" spc="1" strike="noStrike">
              <a:ln w="9360">
                <a:solidFill>
                  <a:srgbClr val="ff8a33"/>
                </a:solidFill>
                <a:miter/>
              </a:ln>
              <a:solidFill>
                <a:srgbClr val="ff8a33"/>
              </a:solidFill>
              <a:latin typeface="Juice ITC"/>
              <a:ea typeface="Juic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8a33"/>
                  </a:solidFill>
                  <a:miter/>
                </a:ln>
                <a:solidFill>
                  <a:srgbClr val="ff8a33"/>
                </a:solidFill>
                <a:latin typeface="Juice ITC"/>
              </a:rPr>
              <a:t>y traje de bano.</a:t>
            </a:r>
            <a:endParaRPr b="0" lang="en-US" sz="3200" spc="1" strike="noStrike">
              <a:ln w="9360">
                <a:solidFill>
                  <a:srgbClr val="ff8a33"/>
                </a:solidFill>
                <a:miter/>
              </a:ln>
              <a:solidFill>
                <a:srgbClr val="ff8a33"/>
              </a:solidFill>
              <a:latin typeface="Juice ITC"/>
              <a:ea typeface="Juice ITC"/>
            </a:endParaRPr>
          </a:p>
        </p:txBody>
      </p:sp>
      <p:pic>
        <p:nvPicPr>
          <p:cNvPr id="52" name="Picture 9" descr="MCj04127500000[1]"/>
          <p:cNvPicPr/>
          <p:nvPr/>
        </p:nvPicPr>
        <p:blipFill>
          <a:blip r:embed="rId2"/>
          <a:stretch/>
        </p:blipFill>
        <p:spPr>
          <a:xfrm>
            <a:off x="3048120" y="3124080"/>
            <a:ext cx="2768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money_sign"/>
          <p:cNvPicPr/>
          <p:nvPr/>
        </p:nvPicPr>
        <p:blipFill>
          <a:blip r:embed="rId1"/>
          <a:stretch/>
        </p:blipFill>
        <p:spPr>
          <a:xfrm rot="21010200">
            <a:off x="6476760" y="3123720"/>
            <a:ext cx="2396880" cy="343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MPj04426270000[1]"/>
          <p:cNvPicPr/>
          <p:nvPr/>
        </p:nvPicPr>
        <p:blipFill>
          <a:blip r:embed="rId2"/>
          <a:stretch/>
        </p:blipFill>
        <p:spPr>
          <a:xfrm>
            <a:off x="1600200" y="2362320"/>
            <a:ext cx="4572000" cy="3016080"/>
          </a:xfrm>
          <a:prstGeom prst="rect">
            <a:avLst/>
          </a:prstGeom>
          <a:ln w="0">
            <a:noFill/>
          </a:ln>
        </p:spPr>
      </p:pic>
      <p:sp>
        <p:nvSpPr>
          <p:cNvPr id="55" name="WordArt 7"/>
          <p:cNvSpPr txBox="1"/>
          <p:nvPr/>
        </p:nvSpPr>
        <p:spPr>
          <a:xfrm>
            <a:off x="1523880" y="1143000"/>
            <a:ext cx="664848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Juice ITC"/>
              </a:rPr>
              <a:t>La vacaciones costaron mucho dinero. </a:t>
            </a:r>
            <a:endParaRPr b="0" lang="en-US" sz="4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Juice ITC"/>
              <a:ea typeface="Juice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447920" y="1371600"/>
            <a:ext cx="6257880" cy="781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Juice ITC"/>
              </a:rPr>
              <a:t>En el Aruba jugamos en el agua. </a:t>
            </a:r>
            <a:endParaRPr b="0" lang="en-US" sz="54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Juice ITC"/>
              <a:ea typeface="Juice ITC"/>
            </a:endParaRPr>
          </a:p>
        </p:txBody>
      </p:sp>
      <p:pic>
        <p:nvPicPr>
          <p:cNvPr id="57" name="Picture 6" descr="the%20beach%20and%20the%20raftman"/>
          <p:cNvPicPr/>
          <p:nvPr/>
        </p:nvPicPr>
        <p:blipFill>
          <a:blip r:embed="rId1"/>
          <a:stretch/>
        </p:blipFill>
        <p:spPr>
          <a:xfrm>
            <a:off x="1752480" y="2286000"/>
            <a:ext cx="54864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2:17:59Z</dcterms:created>
  <dc:creator>Christine</dc:creator>
  <dc:description/>
  <dc:language>en-US</dc:language>
  <cp:lastModifiedBy>Administrator</cp:lastModifiedBy>
  <dcterms:modified xsi:type="dcterms:W3CDTF">2009-12-16T18:27:00Z</dcterms:modified>
  <cp:revision>3</cp:revision>
  <dc:subject/>
  <dc:title>Slide 1</dc:title>
</cp:coreProperties>
</file>