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DEC-E3DA-4ED6-8951-C92B9B16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01F-2C0F-466E-9268-99BF16CB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6F2-30FE-4134-96C0-F7454DCB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0B7-19FA-40AA-8A63-F78C4E2F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036-86A7-477B-8382-17A9FF9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2F5-AEB9-493B-9EA5-90A3173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031-85F4-4C82-A161-88EF7237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35F-B064-47AA-967A-1E1F2B0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9C7-E3A4-414B-AE55-FE49BDAD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68D-51CF-4DF2-B039-F53F381C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299-5EAF-4BA2-86F5-E70105E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2B5-48B5-4E7F-B37D-B53D0F7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150D-50C2-4FCA-8779-499C7B81C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1371600"/>
            <a:ext cx="5715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Travel Project</a:t>
            </a:r>
            <a:endParaRPr b="0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  <p:pic>
        <p:nvPicPr>
          <p:cNvPr id="42" name="Picture 6" descr="aruba-beach%5B1%5D"/>
          <p:cNvPicPr/>
          <p:nvPr/>
        </p:nvPicPr>
        <p:blipFill>
          <a:blip r:embed="rId1"/>
          <a:stretch/>
        </p:blipFill>
        <p:spPr>
          <a:xfrm>
            <a:off x="2514600" y="24382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8120" y="5905440"/>
            <a:ext cx="35146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By Christine Jurgensen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133720" y="1447920"/>
            <a:ext cx="533376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Juice ITC"/>
              </a:rPr>
              <a:t>Mi viaje a Aruba </a:t>
            </a:r>
            <a:endParaRPr b="0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Juice ITC"/>
              <a:ea typeface="Juice ITC"/>
            </a:endParaRPr>
          </a:p>
        </p:txBody>
      </p:sp>
      <p:pic>
        <p:nvPicPr>
          <p:cNvPr id="45" name="Picture 6" descr="aruba_2%5B1%5D"/>
          <p:cNvPicPr/>
          <p:nvPr/>
        </p:nvPicPr>
        <p:blipFill>
          <a:blip r:embed="rId2"/>
          <a:stretch/>
        </p:blipFill>
        <p:spPr>
          <a:xfrm>
            <a:off x="762120" y="3429000"/>
            <a:ext cx="380988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ibbean-aruba"/>
          <p:cNvPicPr/>
          <p:nvPr/>
        </p:nvPicPr>
        <p:blipFill>
          <a:blip r:embed="rId3"/>
          <a:stretch/>
        </p:blipFill>
        <p:spPr>
          <a:xfrm>
            <a:off x="4267080" y="2666880"/>
            <a:ext cx="3724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1143000"/>
            <a:ext cx="86011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Yo viaje en el Avion. En Aruba nosotros viajamos en el carro.</a:t>
            </a:r>
            <a:endParaRPr b="0" lang="en-US" sz="40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  <p:pic>
        <p:nvPicPr>
          <p:cNvPr id="48" name="Picture 6" descr="plane"/>
          <p:cNvPicPr/>
          <p:nvPr/>
        </p:nvPicPr>
        <p:blipFill>
          <a:blip r:embed="rId1"/>
          <a:stretch/>
        </p:blipFill>
        <p:spPr>
          <a:xfrm>
            <a:off x="2133720" y="2133720"/>
            <a:ext cx="50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ec"/>
            </a:gs>
            <a:gs pos="50000">
              <a:srgbClr val="ffffff"/>
            </a:gs>
            <a:gs pos="100000">
              <a:srgbClr val="c6c6e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05120" y="1295280"/>
            <a:ext cx="5457600" cy="156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Yo estuve de vacaciones por 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una semanas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</p:txBody>
      </p:sp>
      <p:pic>
        <p:nvPicPr>
          <p:cNvPr id="50" name="Picture 6" descr="aruba"/>
          <p:cNvPicPr/>
          <p:nvPr/>
        </p:nvPicPr>
        <p:blipFill>
          <a:blip r:embed="rId1"/>
          <a:stretch/>
        </p:blipFill>
        <p:spPr>
          <a:xfrm>
            <a:off x="2133720" y="27432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990720" y="1523880"/>
            <a:ext cx="731520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o llevo es una vestido, camisas,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 traje de bano.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</p:txBody>
      </p:sp>
      <p:pic>
        <p:nvPicPr>
          <p:cNvPr id="52" name="Picture 9" descr="MCj04127500000[1]"/>
          <p:cNvPicPr/>
          <p:nvPr/>
        </p:nvPicPr>
        <p:blipFill>
          <a:blip r:embed="rId2"/>
          <a:stretch/>
        </p:blipFill>
        <p:spPr>
          <a:xfrm>
            <a:off x="3048120" y="3124080"/>
            <a:ext cx="2768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money_sign"/>
          <p:cNvPicPr/>
          <p:nvPr/>
        </p:nvPicPr>
        <p:blipFill>
          <a:blip r:embed="rId1"/>
          <a:stretch/>
        </p:blipFill>
        <p:spPr>
          <a:xfrm rot="21010200">
            <a:off x="6476760" y="3123720"/>
            <a:ext cx="2396880" cy="343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j04426270000[1]"/>
          <p:cNvPicPr/>
          <p:nvPr/>
        </p:nvPicPr>
        <p:blipFill>
          <a:blip r:embed="rId2"/>
          <a:stretch/>
        </p:blipFill>
        <p:spPr>
          <a:xfrm>
            <a:off x="1600200" y="2362320"/>
            <a:ext cx="4572000" cy="3016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3880" y="1143000"/>
            <a:ext cx="6648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La vacaciones costaron mucho dinero. </a:t>
            </a:r>
            <a:endParaRPr b="0" lang="en-US" sz="4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47920" y="1371600"/>
            <a:ext cx="625788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Juice ITC"/>
              </a:rPr>
              <a:t>En el Aruba jugamos en el agua. 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Juice ITC"/>
              <a:ea typeface="Juice ITC"/>
            </a:endParaRPr>
          </a:p>
        </p:txBody>
      </p:sp>
      <p:pic>
        <p:nvPicPr>
          <p:cNvPr id="57" name="Picture 6" descr="the%20beach%20and%20the%20raftman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2:17:59Z</dcterms:created>
  <dc:creator>Christine</dc:creator>
  <dc:description/>
  <dc:language>en-US</dc:language>
  <cp:lastModifiedBy>Administrator</cp:lastModifiedBy>
  <dcterms:modified xsi:type="dcterms:W3CDTF">2009-12-16T18:27:00Z</dcterms:modified>
  <cp:revision>3</cp:revision>
  <dc:subject/>
  <dc:title>Slide 1</dc:title>
</cp:coreProperties>
</file>